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498-7038-410F-801A-097E3E70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65E-8913-4B8C-B95D-E8099704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F3A-2999-405F-879B-241764D4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9DA-A30C-4A29-86DC-D7F79388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FAD-2408-4933-AB61-B6D8372B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901-E275-4190-A464-2D1B163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70E-C5F7-474F-A0C5-A17092BC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DC4-4780-4DC6-B948-80CAA98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18D-B0EC-4C43-AC2B-C3D30ECB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3F8-D38C-49FF-ACB0-B3F0678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5C0-C6DA-4FED-8FEB-13B7C1CA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B31-C8C5-4242-88E2-5C24EE8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2A5-899E-44FA-98DB-CF30E7934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To look at 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ar –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looking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43760" y="4495680"/>
            <a:ext cx="10191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 A person that tells st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 s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9240" y="2743200"/>
            <a:ext cx="1896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sign out and tak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check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sta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86360" y="2590920"/>
            <a:ext cx="15811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 To take something with permis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: bor-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 use with per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 ste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324480" y="259092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 Full of strong desire: ex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: ea-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 really hap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8-10-21T15:48:42Z</dcterms:modified>
  <cp:revision>9</cp:revision>
  <dc:subject/>
  <dc:title>PowerPoint Presentation</dc:title>
</cp:coreProperties>
</file>